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9609-721A-4921-8ECB-F22FC0EDAE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F5C0-C3FC-4462-AEE9-9CFD24355D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E0E4-1424-4A25-BC4D-989CFDE6DE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52F1-0A81-4ED4-89EB-8BAE92A794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7BCA-C03E-4436-BA17-CC7B8C70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6012-0B0A-482C-974F-2425B28C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A3AD-7A65-430E-A282-6D84AB21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4873-67AF-45EB-A813-E6B65111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2739-1A68-494C-8580-964BAE55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BFA1-FB95-4155-AEA7-167A82D3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8852-0504-4096-8083-C4F2A9CD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BAF3-3CCC-43D8-8371-1C8104C7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2867-A683-418C-A3E7-EB89EF90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CBAE-D800-4018-B856-C7AD09F7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11ED-BE8D-42C3-86B0-C27D5870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A833-A2DD-4694-A1EA-756701E2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906C-D1FF-4226-9E54-1A0C862E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289E-8979-427A-9290-77DC9975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3F6A-05BD-43A5-8311-2E06BFC3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5E58-2E9F-4434-8ED3-8523B8F7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D668-57FD-4A55-B9D7-CF0E7CBC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0B068-E288-4326-A224-D9D32AE2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7CE26-91F1-45D5-AB0D-62169F75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56648B-809D-48F9-814C-846D7667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AE5112-D45F-4209-93E6-AD78BF32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D1666E-4E10-4CC4-9A8D-981ABB2B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E008-BA30-48B1-AFE7-F3DBA783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B796F-8FA3-45FD-B32A-E78902F3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E17DCE-F957-45D8-8D98-BF563216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2CD08F-E05A-4C65-B519-67A15C8C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4D1E77-4500-4F54-B6A9-3F14B5FF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FDBF30-D237-4F29-962E-A40F902C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C766A1-55C4-4F48-BB0A-ADF935F7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6AB8CA-22B0-46A6-AF12-1DFE12B4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75B5C9-321F-41F9-ACAC-DE38F9FD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5168E3-7AF4-4B94-B333-D6918DBA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9D05F5-580D-427E-8187-6F7FED0F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DE1D-9334-4FD4-89C5-D312EF3A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2823AE-79DA-49F3-A7F1-A94E58DE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6F1AE4-0EAC-4528-8796-1097219E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E80006-28FF-4800-8AAA-E679B82D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E8F7AF-BC58-4038-9232-E08CC773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532B30-9AF6-45AF-BB2E-18FF3E81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B8D667-04B6-4AB3-BE8B-BA5A2F9C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163AB8-D8F7-4A2A-948E-4A7E7C3C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7FA68D-5A61-414D-A7B5-A2C3A9FB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EA790D-E51E-4170-B027-9BB95ECA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F03774-A0EB-4E08-BE05-EE322601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C9B2-09CD-4E3E-ABDF-903A4936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D9BF47-EFD3-4771-8389-F5AA3B09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87A187-98F0-4402-A3DF-6274E64E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5CE90B-DA2A-47F1-9044-17A359AE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3FAE27-5810-422D-82AA-ADDC9691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38D64D-7DEC-4F75-B86A-E0D6B8BE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EEC331-4B6E-40FB-88DD-9FF47991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8EEA48-2F27-4A9C-A775-2FE17926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54CEB7-5D16-494C-9B51-70A91257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C9D6A9-17E0-4A00-9F44-0B986051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B830A8-BC96-4396-B612-66CF12CF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91DA-3D47-4A7F-84D7-D80E9081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A4D495-F90C-44A5-B136-DD71B6F3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742B1-92DA-4713-89EA-22B793BC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8449E-CAFD-411F-996A-3C170817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82AA6-0061-4DF8-BAA5-D8C9B94B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DEACA-95AE-477B-8C56-89E9C66C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D2DF0-0A8E-44DA-BBDD-71FE15FF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28EF1-204F-4295-A64E-97C082E0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FABD7-2C81-4521-90E5-12705741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6C0B7-73DE-4BB9-9AB2-6FC5F7E9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68E0D-0A5F-4492-AFA9-0D4A280F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2D7E-674A-4080-A72B-23E9CDB8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0FDED-26A0-46BF-BCE6-FD512418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D3D84-48C6-40DE-A290-787B0620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E66EA-F462-43F0-B0A6-92D0675B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0EED62-3E95-4AA0-B809-989146B6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B69B65-7123-429F-90A5-05EC9294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CD7251-9A37-4DA5-85B2-0C17F019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8EBBB3-CD84-4766-A964-52432856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1584AD-BA79-48CE-A95E-A22818C9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DE2213-3390-41E7-9B9B-5E91D33D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433541-B20F-4FE8-BE61-624F7D2D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E900-08C8-4C70-A770-BE506459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A56376-681E-4B2D-B91C-498D3415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C4728A-19DE-48C6-8358-D6EA24A3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99A296-220E-4CB3-B728-B425085D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F7BA70-B11E-4A47-8F26-5D5658B6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DD4EBB-7B44-4B66-97AE-95552A49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100F3-18E6-493D-9C4A-1097A630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7F7CF-976B-4958-BD1A-54173583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9F5BB-5AAC-4F43-B87C-62EEF194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5064C-00BE-489F-8563-63C5D9C6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D4C13-EC03-4739-BA46-B0229AF7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A3B4-7C6B-486E-B5EA-EA94E2F2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0D988-FA8A-483C-817E-352DA8A8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DF20D-C598-4110-B557-94F1B1BA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52415-7DCD-4DAD-BD0C-3F9993AF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88BF0-9E8B-49E4-A901-629C4525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80FCF-A5B2-477C-8827-326D36EB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2559B-003E-4647-B83A-921B52A6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36750-0F27-4613-8B17-ADAB5E79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5f6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5f6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0033-F157-4179-94E9-61E362AF0735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39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6EE0-6B57-49C6-AB2B-C0BF88CD839F}" type="slidenum">
              <a:rPr b="1" lang="ru-RU" sz="1400" spc="-1" strike="noStrike">
                <a:solidFill>
                  <a:srgbClr val="fff39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5f6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5f6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46E3-4CDF-42B5-999A-C937495E40EF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5f6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5f6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0173-4B3E-4891-B8FD-E7EC544B8DC0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5f6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5f6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56E5-0429-4DDA-8AF8-5593CA20EEBE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5f6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5f6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575f6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E9C0-E9E4-49DC-BCDE-84000430BF4E}" type="slidenum">
              <a:rPr b="1" lang="ru-RU" sz="1400" spc="-1" strike="noStrike">
                <a:solidFill>
                  <a:srgbClr val="575f6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5f6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5f6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8098-EC33-4909-9708-8295B33ACFE1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5f6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5f6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38CD-060E-4FA4-BC9E-AB6D8F8DE7D1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14680" y="-360"/>
            <a:ext cx="71244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39d"/>
                </a:solidFill>
                <a:latin typeface="Arial"/>
                <a:ea typeface="Arial"/>
              </a:rPr>
              <a:t>ПРИОРИТЕТЫ  РАЗВИТИЯ  БОБОДЖОН ГАФУРОВСКОГО РАЙОНА</a:t>
            </a:r>
            <a:br>
              <a:rPr sz="1600"/>
            </a:br>
            <a:endParaRPr b="0" lang="en-US" sz="1600" spc="-1" strike="noStrike">
              <a:solidFill>
                <a:srgbClr val="fff39d"/>
              </a:solidFill>
              <a:latin typeface="Calibri"/>
            </a:endParaRPr>
          </a:p>
        </p:txBody>
      </p:sp>
      <p:pic>
        <p:nvPicPr>
          <p:cNvPr id="358" name="Рисунок 2" descr="C:\Users\HP\Desktop\ПРР Бободжон Гафуров\фото района Гафурова\редактированный\033.jpg"/>
          <p:cNvPicPr/>
          <p:nvPr/>
        </p:nvPicPr>
        <p:blipFill>
          <a:blip r:embed="rId1"/>
          <a:stretch/>
        </p:blipFill>
        <p:spPr>
          <a:xfrm>
            <a:off x="1857240" y="1785960"/>
            <a:ext cx="6276960" cy="40194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0" descr="F:\PHIL'S DOCUMENTS\CONFLICT JOBS\2010 JOBS\UNDP - TAJIKISTAN\RGP Ist Review Meeting - 24 August 2010\RGP Logo - 30 August 2010.JPG"/>
          <p:cNvPicPr/>
          <p:nvPr/>
        </p:nvPicPr>
        <p:blipFill>
          <a:blip r:embed="rId2"/>
          <a:stretch/>
        </p:blipFill>
        <p:spPr>
          <a:xfrm>
            <a:off x="0" y="285840"/>
            <a:ext cx="16336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блемы  в сельском хозяйстве   </a:t>
            </a:r>
            <a:endParaRPr b="0" lang="en-US" sz="28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1280" y="162828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нижение  сбора урожая некоторых продукций, в том числе картошки, винограда и фрукт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ольшая часть сельхозтехники приобретена в период с 1975 по 1995 г.  (в год хозяйствами приобретается не более 2-3 ед. техники). Существующая техника изношена. Ее ежегодный ремонт требует серьезных затрат (ремонту подлежит 60-70% техники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олее 10% орошаемых земель района подвержены процессу засоления. Средне и сильно засоленные площади в 2009 г. составляли 1016 г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роблемы в области землепользования </a:t>
            </a:r>
            <a:endParaRPr b="0" lang="en-US" sz="28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т общих площадей сельскохозяйственных орошаемых земель 86 % орошаются техническим способом (т.е. насосами). Эти насоси из-за долгой эксплуатации перешли в негодности и малоэфективны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ровень минерализации почв 002C превышающий нормативные показатели (3г/л), в 2009 составили 372 г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лощади земель с критическим УГВ (1-1,5 м) увеличились с 2000 до 2004 г на 240 га. При  этом  уровень грунтовых вод до 1,0 м распространяется на площади 1760 га, а площади с УГВ до 1,8 м составляют 5596 г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новной причиной поднятия грунтовых вод являются проблемы ирригационных сете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Ирригация</a:t>
            </a:r>
            <a:endParaRPr b="0" lang="en-US" sz="2800" spc="-1" strike="noStrike">
              <a:solidFill>
                <a:srgbClr val="575f6d"/>
              </a:solidFill>
              <a:latin typeface="Calibri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523880" y="2949480"/>
          <a:ext cx="6977160" cy="2124000"/>
        </p:xfrm>
        <a:graphic>
          <a:graphicData uri="http://schemas.openxmlformats.org/drawingml/2006/table">
            <a:tbl>
              <a:tblPr/>
              <a:tblGrid>
                <a:gridCol w="439920"/>
                <a:gridCol w="3268440"/>
                <a:gridCol w="1868760"/>
                <a:gridCol w="1400040"/>
              </a:tblGrid>
              <a:tr h="5256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а изме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орош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8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те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удовлетворите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2" name="Rectangle 1"/>
          <p:cNvSpPr/>
          <p:nvPr/>
        </p:nvSpPr>
        <p:spPr>
          <a:xfrm>
            <a:off x="1571760" y="214488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а: Мелиоративное состояние орошаемых земель (га) по УГВ и засолению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1428840" y="5645160"/>
            <a:ext cx="735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йоне существует более 32683 га пахотных поливных земель, из которых 86% поливаются при помощи насосных станций.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роблемы в области ирригации 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удовлетворительное состояние КДС, как межхозяйственных, так и внутрихозяйственных. Из 414,89 км КДС в неудовлетворительном состоянии (зарастание, заиливание) находятся около 20%, особенно это касается внутрихозяйственных КДС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удовлетворительное состояние вертикальных дренажных откачивающих скважин (из 193 таких скважин в рабочем состоянии находятся около 100  или  51-52%, но функционирующие скважины работают не более 8 часов в сутки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риоритетные  направления  для дальнейшего развития сектора экономики </a:t>
            </a:r>
            <a:endParaRPr b="0" lang="en-US" sz="28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42680"/>
            <a:ext cx="815328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571680" y="1714680"/>
          <a:ext cx="8286480" cy="4330440"/>
        </p:xfrm>
        <a:graphic>
          <a:graphicData uri="http://schemas.openxmlformats.org/drawingml/2006/table">
            <a:tbl>
              <a:tblPr/>
              <a:tblGrid>
                <a:gridCol w="2643120"/>
                <a:gridCol w="564336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ел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дач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58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ышение с/х  урожайности     в райо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ысить потенциал  и мотивацию специалистов в области развития С\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спечить  с\х производителей необходимой техникой, и  Г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ысить  качество посевных зем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лучшить систему орош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низить  риски  стихийных бедств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экспортного  потенциала сельхозпроизводств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спечить   конкурентоспособность продукции с/х на внешнем и внутреннем рынка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нижение убыточности животноводческих продукций, и увеличение их рентабельнос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величить  поголовье скот во всех хозяйствах, независимо от форм собств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ысить  плодородность отрасли животновод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ысить  объем производства ры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ь  отрасль пчелово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ромышленность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мышленность района является важной составляющей промышленности Согдийской области и Республики (7,8% от общей производимой промышленной продукции Согдийской области и почти 2,0% от общей производимой промышленной продукции страны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районе осуществляется переработка  хлопка и сельскохозяйственной продукции, пищевой промышленности  и производства  строительных материалов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ъем промышленного производства района в денежном выражении в 2011 г. по сравнению с 2010 г. вырос на 85%. Переработка хлопка составляет 43,3% от общего объема промышленного производства района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сновные проблемы</a:t>
            </a:r>
            <a:endParaRPr b="0" lang="en-US" sz="28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тсутствие необходимых финансовых резервов для проведения ремонта, реконструкции и диверсификации производства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старевшее оборудование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достаточный объем непосредственного капиталовложения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изкий уровень менеджмента, отсутствие современной маркетинговой системы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642960" y="1785960"/>
          <a:ext cx="8153280" cy="4884840"/>
        </p:xfrm>
        <a:graphic>
          <a:graphicData uri="http://schemas.openxmlformats.org/drawingml/2006/table">
            <a:tbl>
              <a:tblPr/>
              <a:tblGrid>
                <a:gridCol w="3500280"/>
                <a:gridCol w="4653000"/>
              </a:tblGrid>
              <a:tr h="582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ел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дач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5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ый ввод в эксплуатацию существующих мощностей промышленных предприятий и организация переработки местного сыр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ние  и реорганизация  совместных промышленных предприятий с привлечением местных и зарубежных предпринимателе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ффективное обеспечение предприятий сырь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спечение конкурентноспособности продукции промышленных предприят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741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спечить  условия для  устойчивого развития  МС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ысить потенциал и осведомлённость предпринимателей по вопросам введения и организации бизне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лучшить бизнес среду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Малый и средний бизнес</a:t>
            </a:r>
            <a:endParaRPr b="0" lang="en-US" sz="28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роблемы бизнеса</a:t>
            </a:r>
            <a:endParaRPr b="0" lang="en-US" sz="28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дминистративные преграды и коррупция во время получения различных разрешений, лицензий, и сертификатов, проведения проверок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ефицит кредитных ресурсов;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достаточность информаций об инвесторах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доступность генеральных планов по развитию территории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абая работа организаций предпринимателей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устойчивое обеспечение предприятий электроэнергией особенно в зимний период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Историко-культурный контекст </a:t>
            </a:r>
            <a:endParaRPr b="0" lang="en-US" sz="28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Бободжон Гафуровский район  был образован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26 году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ешением Верховного Совета Советской социалистической Республики  Таджикистан  от 27. 10. 1939 года район  входит в состав  области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30. 06. 1999 году  в честь 90 -  летия   академика, Бободжона Гафурова, героя Таджикистана,  район был  переименован в Б.Гафуров.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йон разделён на 11 джамоатов и центром  района является поселок Гафуров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2.2. Социальная сфера</a:t>
            </a: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400" name="Содержимое 3" descr=""/>
          <p:cNvPicPr/>
          <p:nvPr/>
        </p:nvPicPr>
        <p:blipFill>
          <a:blip r:embed="rId1"/>
          <a:stretch/>
        </p:blipFill>
        <p:spPr>
          <a:xfrm>
            <a:off x="487440" y="1579680"/>
            <a:ext cx="829152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бразование </a:t>
            </a:r>
            <a:endParaRPr b="0" lang="en-US" sz="28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 территории района функционируют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6 дошкольных учреждений,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19 образовательных учреждений с различными формами собственности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6 центров дополнительного обучения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2 центра профессиональной подготовки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2 государственные гимназии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 спец.школа для глухих дете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совокупности в  учреждениях образования, кроме ДОУ и дополнительных обучений имеются 35410 мес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о всех видах образовательных учреждений обучаются    59141 учащихся в т.ч. 29284 девочек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риоритетные  направления  для дальнейшего развития социального сектора</a:t>
            </a:r>
            <a:endParaRPr b="0" lang="en-US" sz="2800" spc="-1" strike="noStrike">
              <a:solidFill>
                <a:srgbClr val="575f6d"/>
              </a:solidFill>
              <a:latin typeface="Calibri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642960" y="1643040"/>
          <a:ext cx="8153280" cy="4857840"/>
        </p:xfrm>
        <a:graphic>
          <a:graphicData uri="http://schemas.openxmlformats.org/drawingml/2006/table">
            <a:tbl>
              <a:tblPr/>
              <a:tblGrid>
                <a:gridCol w="2857320"/>
                <a:gridCol w="529596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ел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дач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3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лучшение качества предоставления  услуг в сфере  образ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влечение высококвалифицированных  специалис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спечение школ не достающим   оборудован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спечение школ недостающей литератур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ивирование преподавателей к качественному процессу препода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0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нижение уровня заболеваемости  среди жителей райо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оевременная диагностика больных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Информирование населения о причинах распространения болезней, пропагандистские и агитационные работы среди насел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ривлечение  населения к здоровому образу жизни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Здравоохранение </a:t>
            </a:r>
            <a:endParaRPr b="0" lang="en-US" sz="28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Calibri"/>
              </a:rPr>
              <a:t>Проблемы в сфере здравоохранения </a:t>
            </a:r>
            <a:endParaRPr b="0" lang="en-US" sz="36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ост  количества родов на дому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ост  младенческой смертности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ост гепатита А и ВИЧ\СПИД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ост кишечных инфекционных болезней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ост онкологических заболеваний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едико-профилактические учреждения района функционируют в условиях нехватки финансирования, изношенности оборудования и зданий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оциальная защита</a:t>
            </a:r>
            <a:endParaRPr b="0" lang="en-US" sz="28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фера социального обеспечения района  включает в себя систему пенсионного обеспечения, занятости населения, трудовую миграцию и оказание адресной социальной помощи уязвимым и бедным слоям населе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Количество рабочих по району по данным райстата за 1-ый квартал 2011 года составляет 36249 человек. Средняя заработная плата за 1-ый квартал 2011 года составляет 308 сомони 88 дирам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Общая  численность пенсионеров в районе на 01.06.2011 года составляет 26227 человек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ультура и досуг</a:t>
            </a:r>
            <a:endParaRPr b="0" lang="en-US" sz="28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Б.Гафуровском районе действуют 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4 учреждений культуры, 31 библиотека, школа искусства и ансамбль «Шашмаком». В этих учреждениях работают 134 человека, 60% из которых имеют высшее и средне специальное образование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3 детско-юношеские спортивные школы (ДЮСШ), в которых занимаются 840 детей. Общее количество работников ДЮСШ - 33 человека (из них 24 тренера). Кроме того, в районе функционируют 19 спортзалов, 63 спорт площадки и 4 стадион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роблемы в сфере культуры и досуга </a:t>
            </a:r>
            <a:endParaRPr b="0" lang="en-US" sz="28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дания клубов хозяйств Ходжабакиргон, им.Хамзаалиева, П.Бобокалонова, Точикистон, им.Убайдуллоева, А.Рахимбоева находятся в неудовлетворительном состоянии и нуждаются в проведении капитального ремонта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500" spc="-1" strike="noStrike">
                <a:solidFill>
                  <a:srgbClr val="000000"/>
                </a:solidFill>
                <a:latin typeface="Calibri"/>
              </a:rPr>
              <a:t>необходимость проведения ремонта спортивных залов при школах, ремонта 3-х стадионов хозяйств им А.Джумаева, Т.Кушатова и И.Хамзаалиева, нехватка спортивных площадок около многоэтажных домов и в кварталах района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500" spc="-1" strike="noStrike">
                <a:solidFill>
                  <a:srgbClr val="000000"/>
                </a:solidFill>
                <a:latin typeface="Calibri"/>
              </a:rPr>
              <a:t>проблемы финансирования поездок спортсменов для участия в республиканских и международных соревнования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Calibri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42960" y="1643040"/>
          <a:ext cx="8153280" cy="4857840"/>
        </p:xfrm>
        <a:graphic>
          <a:graphicData uri="http://schemas.openxmlformats.org/drawingml/2006/table">
            <a:tbl>
              <a:tblPr/>
              <a:tblGrid>
                <a:gridCol w="2214720"/>
                <a:gridCol w="593856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ел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дач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3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лучшение доступа  одиноких пенсионеров,  инвалидов   и нуждающихся в уходе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на до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Создание базы данных по одиноким пенсионерам,  инвалидам   и нуждающимся  в ух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Привлечение  волонтеров  из числа молодежи и студентов к уходу за нуждающимися на до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Мотивировать соц. Работников   к улучшениею выполняемой рабо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0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лучшить доступ населения к культурным и спортивным  мероприятия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лучшить  условия  в существующих  спортивных и культурных комплекса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g-Cyrl-TJ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величить  количество  спортивных площадо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g-Cyrl-TJ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дрежка  спортсмен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2.3. Инфраструктура</a:t>
            </a:r>
            <a:r>
              <a:rPr b="0" lang="ru-RU" sz="3600" spc="-1" strike="noStrike">
                <a:solidFill>
                  <a:srgbClr val="575f6d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418" name="Содержимое 3" descr=""/>
          <p:cNvPicPr/>
          <p:nvPr/>
        </p:nvPicPr>
        <p:blipFill>
          <a:blip r:embed="rId1"/>
          <a:stretch/>
        </p:blipFill>
        <p:spPr>
          <a:xfrm>
            <a:off x="506520" y="1603440"/>
            <a:ext cx="828972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Демографическая ситуация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z-Cyrl-UZ" sz="2900" spc="-1" strike="noStrike">
                <a:solidFill>
                  <a:srgbClr val="000000"/>
                </a:solidFill>
                <a:latin typeface="Calibri"/>
              </a:rPr>
              <a:t>Население района по состоянию на 1 января 2012 г. составляет 324,4 тыс.  Человек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z-Cyrl-UZ" sz="2900" spc="-1" strike="noStrike">
                <a:solidFill>
                  <a:srgbClr val="000000"/>
                </a:solidFill>
                <a:latin typeface="Calibri"/>
              </a:rPr>
              <a:t>из  них  17,1 тыс человек (5,4%) проживают в поселке,  а оставшиеся 307,2 тыс.  человек проживают в сельской местност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итьевое водоснабжение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беспечение </a:t>
            </a:r>
            <a:r>
              <a:rPr b="0" lang="uk-UA" sz="2900" spc="-1" strike="noStrike">
                <a:solidFill>
                  <a:srgbClr val="000000"/>
                </a:solidFill>
                <a:latin typeface="Calibri"/>
              </a:rPr>
              <a:t>чистой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итьевой водой в Б.Гафуровском районе доступно только для 51% населения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еобеспеченное население пользуются из искусственно созданных водоёмов ( хаузов), арыков, каналов и колодцев вертикального дренаж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alibri"/>
              </a:rPr>
              <a:t>Проблемы  водоснабжения</a:t>
            </a:r>
            <a:endParaRPr b="0" lang="en-US" sz="36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сутствие в некоторых джамоатах системы снабжения питьевой водой и предприятия по ремонту водопроводных линий и водных насосов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ревшие станции водоснабжения, низкое давление в магистральных трубах, затрудняющее подачу воды в многоэтажных зданиях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нос водонасосных станций и водоочистительных сооружени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вышение суточных потерь воды (60-70% произведенной воды теряется по причине износа станций и нерационального использования воды со стороны потребителей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сутствие центров санитарной очистки питьевой воды во многих джамоатах, а также отсутствие охраны территорий водохранилищ в этих местностях;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достаточное проведение обследований питьевой воды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сутствие средств для строительства и восстановления канализационных сооружений пгт. Гафуров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абая техническая база Государственного дочернего предприятия «Водоснабжение и канализация»- район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Жилищно-коммунальное хозяйство </a:t>
            </a:r>
            <a:br>
              <a:rPr sz="4000"/>
            </a:br>
            <a:endParaRPr b="0" lang="en-US" sz="28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ржание и ремонт системы электроснабжения обеспечивает предприятие Электрические сети Б. Гафуровского рай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С района имеет на своем балансе четыре 110 кВ -х электрических подстанций мощностью 70,3 тысяч кВт, одиннадцать - 35 кВ подстанций мощностью 83,8 тысяч кВт. Протяженность воздушных линий составляет: 10 КВ – 46,5 км, 6 кВ - 815 км, 0,4 кВт – 880,6 км. Электроснабжение джамоата Исмоил обеспечил предприятие Электрические сети Кайроккум, который является одним подразделом Электрической сети Согдийской обла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своем балансе четыре 35 кВ -х электрических подстанций мощностью 10,6 тысяч кВт. Протяженность воздушных линий составляет: 6 кВ – 110 км, 0,4 кВт – 55 к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селение района лишь частично обеспечено газом 54%. Из-за большой территории Б.Гафуровского района система газооснабжения  разделена  на пять секто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Calibri"/>
              </a:rPr>
              <a:t>Проблемы 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ыход из строя трансформаторов  и электрических сетей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хватка запасных частей и электрического оборудования в достаточном количеств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з-за отсутсвие транспорта острое ошушение трудности при вывозе мусор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  <a:ea typeface="Arial"/>
              </a:rPr>
              <a:t>Приоритетные  направления  для дальнейшего развития сектора инфраструктуры </a:t>
            </a:r>
            <a:endParaRPr b="0" lang="en-US" sz="2500" spc="-1" strike="noStrike">
              <a:solidFill>
                <a:srgbClr val="575f6d"/>
              </a:solidFill>
              <a:latin typeface="Calibri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642960" y="1643040"/>
          <a:ext cx="8153280" cy="5000760"/>
        </p:xfrm>
        <a:graphic>
          <a:graphicData uri="http://schemas.openxmlformats.org/drawingml/2006/table">
            <a:tbl>
              <a:tblPr/>
              <a:tblGrid>
                <a:gridCol w="2857320"/>
                <a:gridCol w="5295960"/>
              </a:tblGrid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ел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дач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3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лучшить доступ населения к качеств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тьевой воде и санитар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овать ремонт и строительство новых сетей водоснаб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лучшить качество питьевой воды в сет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лучшить систему управления питьевым водоснабжением при наличии тех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93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лучшить доступ населения к коммунальным услуг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ведение порядка по вопросам отношения потребителей, включая предприятия, организации, учреждения и коммерческие структуры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спечение техническими средствами жилищно-коммунального хозяйства пгт. Гафурова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вести порядок в  мусоросвалках поселка согласно экологическим норма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лучшить качество транспортных услуг и коммуник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ысить транспортную инфраструктур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илить потенциал местных С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 и усовершенствовании сетей и объектов связи, а также повышения качества услуг связ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2.4. Безопасность окружающей среды</a:t>
            </a:r>
            <a:endParaRPr b="0" lang="en-US" sz="32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Calibri"/>
              </a:rPr>
              <a:t>Проблемы 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12720" y="174096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обая проблема связана с состоянием саев по району и в первую очередь Ходжабакирганский сай.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лияние радиоактивных отходов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агрязненность района бытовым мусором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  <a:ea typeface="Arial"/>
              </a:rPr>
              <a:t>Приоритетные  направления  для дальнейшего развития сектора охраны окружающей среды </a:t>
            </a:r>
            <a:endParaRPr b="0" lang="en-US" sz="2500" spc="-1" strike="noStrike">
              <a:solidFill>
                <a:srgbClr val="575f6d"/>
              </a:solidFill>
              <a:latin typeface="Calibri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642960" y="1643040"/>
          <a:ext cx="8153280" cy="4781520"/>
        </p:xfrm>
        <a:graphic>
          <a:graphicData uri="http://schemas.openxmlformats.org/drawingml/2006/table">
            <a:tbl>
              <a:tblPr/>
              <a:tblGrid>
                <a:gridCol w="2857320"/>
                <a:gridCol w="529596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ел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дач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480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лучшение  состояния окружающей сре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лучшить  мелиоративное состояние земельных ресурсов и обеспечить  питьевой водой насел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илить работу по предупреждению опасности, связанной с радиактивными отходами на территории райо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спечение сохранности зеленных насаждений, увеличение их густоты их площад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системы экологического образования и просвещения населения  района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спечение управления ТБО на уровне вывоза, захоронения и переработки мусор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аптация к изменению, климата, путём внедрения и развития  энергоэффективных, энергосберегающих технологий на производстве и в бы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12720" y="1341000"/>
            <a:ext cx="8153280" cy="4496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_SignboardTitulNrSh"/>
              </a:rPr>
              <a:t>Спасибо за внимание  !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риродно-климатические условия и ресурсы</a:t>
            </a:r>
            <a:endParaRPr b="0" lang="en-US" sz="28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йон имеет континентальный сухой климат. Средняя температура по району в зимний период может доходить от -10 до -15◦</a:t>
            </a: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 летом составляет от +27◦</a:t>
            </a: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до +36◦</a:t>
            </a: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рритория района богата полезными ископаемыми (щебень, песок, камни, почва) и водными ресурсам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ека Сырдарья и Ходжабакиргон обеспечивает водой расширенное сельское хозяйство и другие отрасли.</a:t>
            </a:r>
            <a:r>
              <a:rPr b="0" lang="uz-Cyrl-UZ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новной сельскохозяйственной культурой является хлопок, зерно, картофель, овощи и фрукты. В  районе развита садоводствоство и скотоводств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500" spc="-1" strike="noStrike">
                <a:solidFill>
                  <a:srgbClr val="ff0000"/>
                </a:solidFill>
                <a:latin typeface="Arial"/>
                <a:ea typeface="Arial"/>
              </a:rPr>
              <a:t>Видение будущего </a:t>
            </a:r>
            <a:br>
              <a:rPr sz="2500"/>
            </a:br>
            <a:r>
              <a:rPr b="1" lang="uz-Cyrl-UZ" sz="2500" spc="-1" strike="noStrike">
                <a:solidFill>
                  <a:srgbClr val="ff0000"/>
                </a:solidFill>
                <a:latin typeface="Arial"/>
                <a:ea typeface="Arial"/>
              </a:rPr>
              <a:t>Бободжон Гафуровского района</a:t>
            </a:r>
            <a:br>
              <a:rPr sz="3600"/>
            </a:br>
            <a:endParaRPr b="0" lang="en-US" sz="25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9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uz-Cyrl-UZ" sz="2900" spc="-1" strike="noStrike">
                <a:solidFill>
                  <a:srgbClr val="000000"/>
                </a:solidFill>
                <a:latin typeface="Calibri"/>
              </a:rPr>
              <a:t>Бободжон Гафуровский район – это современный высокотехнологичный агропромышленный центр, отвечающий международным стандартам качества, с хорошей инфраструктурой и привлекательным  бизнес климатом, чистой окружаюшей средой в котором живут  счастливые и здоровые люди.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79280" y="213840"/>
            <a:ext cx="874728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tg-Cyrl-TJ" sz="2400" spc="-1" strike="noStrike">
                <a:solidFill>
                  <a:srgbClr val="f79646"/>
                </a:solidFill>
                <a:latin typeface="Times New Roman Tj"/>
              </a:rPr>
              <a:t>ЦЕЛИ    ОПРЕДЕЛЕНИЯ       ПРИОРИТЕТОВ</a:t>
            </a:r>
            <a:r>
              <a:rPr b="0" lang="ru-RU" sz="2400" spc="-1" strike="noStrike">
                <a:solidFill>
                  <a:srgbClr val="f79646"/>
                </a:solidFill>
                <a:latin typeface="Times New Roman Tj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69" name="Rectangle 101"/>
          <p:cNvSpPr/>
          <p:nvPr/>
        </p:nvSpPr>
        <p:spPr>
          <a:xfrm>
            <a:off x="0" y="1719360"/>
            <a:ext cx="91440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g-Cyrl-TJ" sz="2200" spc="-1" strike="noStrike">
                <a:solidFill>
                  <a:srgbClr val="000000"/>
                </a:solidFill>
                <a:latin typeface="Arial"/>
              </a:rPr>
              <a:t>Целю определения приоритетов прежде всего является  повышения уровня благосотояния народа  путём создания новых рабочих мест и способствовать социально экономическому развитию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g-Cyrl-TJ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tg-Cyrl-TJ" sz="2200" spc="-1" strike="noStrike">
                <a:solidFill>
                  <a:srgbClr val="000000"/>
                </a:solidFill>
                <a:latin typeface="Arial"/>
              </a:rPr>
              <a:t>Реализация приоритетов способствует достижению следующих стратегических целей 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Устойчивое развитие приоритетных отраслей реальной экономики 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оздание благоприятной среды для малого и среднего бизнеса </a:t>
            </a:r>
            <a:r>
              <a:rPr b="0" i="1" lang="tg-Cyrl-TJ" sz="2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g-Cyrl-TJ" sz="2200" spc="-1" strike="noStrike">
                <a:solidFill>
                  <a:srgbClr val="000000"/>
                </a:solidFill>
                <a:latin typeface="Arial"/>
              </a:rPr>
              <a:t>Создание безопасных условий труда и социалных услуг населению;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g-Cyrl-TJ" sz="2200" spc="-1" strike="noStrike">
                <a:solidFill>
                  <a:srgbClr val="000000"/>
                </a:solidFill>
                <a:latin typeface="Arial"/>
              </a:rPr>
              <a:t>Улучшение состояния существующей инфраструктуры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Arial"/>
              </a:rPr>
              <a:t>Основные приоритеты развития района</a:t>
            </a:r>
            <a:endParaRPr b="0" lang="en-US" sz="32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 Tj"/>
              </a:rPr>
              <a:t>Повышение обёмов производства селско хозяйственной продукции и её переработка, обеспечение внутренного рынка качественной продукцией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 Tj"/>
              </a:rPr>
              <a:t>Улучшение мелиоративного состояние земель и их эфективное использование 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 Tj"/>
              </a:rPr>
              <a:t>Создание новых и восстановление  старих садов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 Tj"/>
              </a:rPr>
              <a:t>Ввод новых производственных  мощностей на базе действующих промышленных предприятий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 Tj"/>
              </a:rPr>
              <a:t>Создание новых малых и средных промышленных предприятий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 Tj"/>
              </a:rPr>
              <a:t>Способствовать развитию малого и среднего бизнеса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 Tj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 Tj"/>
              </a:rPr>
              <a:t>Улучшение доступа к  услугам здавоохранения и образования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 Tj"/>
              </a:rPr>
              <a:t>Улучшение условий социальных услуг населению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2.1. Экономика </a:t>
            </a: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373" name="Содержимое 3" descr=""/>
          <p:cNvPicPr/>
          <p:nvPr/>
        </p:nvPicPr>
        <p:blipFill>
          <a:blip r:embed="rId1"/>
          <a:stretch/>
        </p:blipFill>
        <p:spPr>
          <a:xfrm>
            <a:off x="549360" y="1603440"/>
            <a:ext cx="82296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ельское хозяйство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375" name="Схема 5" descr=""/>
          <p:cNvPicPr/>
          <p:nvPr/>
        </p:nvPicPr>
        <p:blipFill>
          <a:blip r:embed="rId1"/>
          <a:stretch/>
        </p:blipFill>
        <p:spPr>
          <a:xfrm>
            <a:off x="639720" y="1573200"/>
            <a:ext cx="779148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pm</dc:creator>
  <dc:description/>
  <dc:language>en-US</dc:language>
  <cp:lastModifiedBy>User</cp:lastModifiedBy>
  <dcterms:modified xsi:type="dcterms:W3CDTF">2012-10-09T11:30:45Z</dcterms:modified>
  <cp:revision>148</cp:revision>
  <dc:subject/>
  <dc:title>КОМПЛЕКСНАЯ ПРОГРАММА СОЦИАЛЬНО -ЭКОНОМИЧЕСКОГО РАЗВИТИЯ БОБОДЖОН ГАФУРОВСКОГО РАЙОНА на 2011-2015 г.г.</dc:title>
</cp:coreProperties>
</file>